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6.wmf" ContentType="image/x-wmf"/>
  <Override PartName="/ppt/media/image17.png" ContentType="image/png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E9BA-29AD-483C-AF69-0DC1944EFEC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7755-4646-4549-A449-36C2F2255BE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6755-3D70-4CC3-B160-B4FC8C4CBA3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BEC9-D672-4B85-8160-46BF612DCBA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1CB5-6DBE-49AC-8EA2-79C17AC900E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AC13-C4AC-450E-A6F3-7E8295942B2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6F69-B0F2-49CE-A314-0CCF8A0C6D1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56D0-7FC9-493C-8BC0-16A9FBA5050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9464-E3D4-4304-B2AD-82AAFAE64A6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E9C7-7F09-4336-B018-5224FF25EAA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C16B-987B-4417-8106-69E2A06623A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2A80-2374-403C-AFB4-3679329FFE5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D32-C23A-4A2D-8FA3-EE2BE06C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C84-30B1-4E62-AD9C-EABEE2C7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AD7-5DA3-4CE0-83EB-88F7DDC8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02A-32A0-4B10-B70E-42496445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111-7456-4C23-8897-4CF02DF3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097-ED66-4B2D-B1E5-05D62CD9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F55-40EE-4927-9DA5-7D022213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764-E44F-44D5-8D2B-19D4ACB0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2B0-62A9-4AD3-907A-FEF7C151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178-5EFA-4BCE-8D27-54118AA0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E47-39E6-44D2-975B-D72FDA09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337-A6D5-4006-BCFF-B5D47BE3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4D26-70AA-4FA6-B7DF-AD0E3AABB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ine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j0111166"/>
          <p:cNvPicPr/>
          <p:nvPr/>
        </p:nvPicPr>
        <p:blipFill>
          <a:blip r:embed="rId1"/>
          <a:stretch/>
        </p:blipFill>
        <p:spPr>
          <a:xfrm>
            <a:off x="2571840" y="2214720"/>
            <a:ext cx="32432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kstikehys 2"/>
          <p:cNvSpPr/>
          <p:nvPr/>
        </p:nvSpPr>
        <p:spPr>
          <a:xfrm>
            <a:off x="1330200" y="928800"/>
            <a:ext cx="71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paine vaikuttaa kiehumis-ja sulamispistee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kstikehys 3"/>
          <p:cNvSpPr/>
          <p:nvPr/>
        </p:nvSpPr>
        <p:spPr>
          <a:xfrm>
            <a:off x="1428840" y="2214720"/>
            <a:ext cx="571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esi kiehuu Mont Everestillä 70 celsiusasteessa, koska ilmanpaine on pienempi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kstikehys 4"/>
          <p:cNvSpPr/>
          <p:nvPr/>
        </p:nvSpPr>
        <p:spPr>
          <a:xfrm>
            <a:off x="1180440" y="4000680"/>
            <a:ext cx="77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inekattilassa vesi kiehuu 120 celsiusaste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6858000" y="2000160"/>
            <a:ext cx="1819440" cy="1752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2071800" y="5000760"/>
            <a:ext cx="18288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2260440" cy="1728720"/>
          </a:xfrm>
          <a:prstGeom prst="rect">
            <a:avLst/>
          </a:prstGeom>
          <a:ln w="0">
            <a:noFill/>
          </a:ln>
        </p:spPr>
      </p:pic>
      <p:sp>
        <p:nvSpPr>
          <p:cNvPr id="91" name="Tekstikehys 2"/>
          <p:cNvSpPr/>
          <p:nvPr/>
        </p:nvSpPr>
        <p:spPr>
          <a:xfrm>
            <a:off x="2966760" y="857160"/>
            <a:ext cx="61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si fakiiri voi maata piikkimatol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tta tuntee kipua, kun istuu nastan pääl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kstikehys 4"/>
          <p:cNvSpPr/>
          <p:nvPr/>
        </p:nvSpPr>
        <p:spPr>
          <a:xfrm>
            <a:off x="3740040" y="3571920"/>
            <a:ext cx="393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si jäihin uponn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nnattaa kieriä jäällä po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ikehys 5"/>
          <p:cNvSpPr/>
          <p:nvPr/>
        </p:nvSpPr>
        <p:spPr>
          <a:xfrm>
            <a:off x="650160" y="3714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rokaa heikkoa jäätä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ine syntyy puristuksesta, paino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AG00222_"/>
          <p:cNvPicPr/>
          <p:nvPr/>
        </p:nvPicPr>
        <p:blipFill>
          <a:blip r:embed="rId1"/>
          <a:stretch/>
        </p:blipFill>
        <p:spPr>
          <a:xfrm>
            <a:off x="1908000" y="2276640"/>
            <a:ext cx="1800360" cy="1698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85880" y="5000760"/>
            <a:ext cx="716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un kävelet,  painosi puristaa maanpint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1979640" y="393372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7748E-006 L 0.63385 0.00232 E">
                                      <p:cBhvr>
                                        <p:cTn id="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65040" y="620640"/>
            <a:ext cx="809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lanjälkien syvyyttä ja uppoamista  voidaan pienentää jakamalla paino isommalle alall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714840" y="3786120"/>
            <a:ext cx="22143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os maa on pehmeä, jätät jalanjälkiä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3000240" y="1857240"/>
            <a:ext cx="28576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kä kengät puristavat eniten pinta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H01363_"/>
          <p:cNvPicPr/>
          <p:nvPr/>
        </p:nvPicPr>
        <p:blipFill>
          <a:blip r:embed="rId1"/>
          <a:stretch/>
        </p:blipFill>
        <p:spPr>
          <a:xfrm>
            <a:off x="4643280" y="2071800"/>
            <a:ext cx="2008440" cy="152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149364"/>
          <p:cNvPicPr/>
          <p:nvPr/>
        </p:nvPicPr>
        <p:blipFill>
          <a:blip r:embed="rId2"/>
          <a:stretch/>
        </p:blipFill>
        <p:spPr>
          <a:xfrm>
            <a:off x="1349280" y="4097160"/>
            <a:ext cx="2254320" cy="1868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j0280376"/>
          <p:cNvPicPr/>
          <p:nvPr/>
        </p:nvPicPr>
        <p:blipFill>
          <a:blip r:embed="rId3"/>
          <a:stretch/>
        </p:blipFill>
        <p:spPr>
          <a:xfrm>
            <a:off x="5599080" y="4238640"/>
            <a:ext cx="1925640" cy="17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1428840" y="1928880"/>
            <a:ext cx="14382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kstikehys 2"/>
          <p:cNvSpPr/>
          <p:nvPr/>
        </p:nvSpPr>
        <p:spPr>
          <a:xfrm>
            <a:off x="2537280" y="285840"/>
            <a:ext cx="61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 lumikenkiä tai suksia ihminen uppo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nke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kstikehys 4"/>
          <p:cNvSpPr/>
          <p:nvPr/>
        </p:nvSpPr>
        <p:spPr>
          <a:xfrm>
            <a:off x="890280" y="2928960"/>
            <a:ext cx="82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inon jakautumista tietylle pinta-alalle kutsutaan painee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kstikehys 5"/>
          <p:cNvSpPr/>
          <p:nvPr/>
        </p:nvSpPr>
        <p:spPr>
          <a:xfrm>
            <a:off x="2680560" y="2000160"/>
            <a:ext cx="62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nkeen kohdistuu vain pieni paine, eikä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ää  up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kstikehys 6"/>
          <p:cNvSpPr/>
          <p:nvPr/>
        </p:nvSpPr>
        <p:spPr>
          <a:xfrm>
            <a:off x="251280" y="4572000"/>
            <a:ext cx="65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ineen symboli on p.  Paineen on  yksikkö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1 N/m</a:t>
            </a:r>
            <a:r>
              <a:rPr b="0" lang="fi-F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 = 1 pascal = 1 P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kstikehys 7"/>
          <p:cNvSpPr/>
          <p:nvPr/>
        </p:nvSpPr>
        <p:spPr>
          <a:xfrm>
            <a:off x="338400" y="5429160"/>
            <a:ext cx="87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1 Pa:n paine on hyvin pieni. Kun kilo riisiä levitetään neliömet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ueelle, syntyy 1 Pa:n paine . Yleisempi yksikkö on k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1643040" cy="20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Object 7"/>
          <p:cNvGraphicFramePr/>
          <p:nvPr/>
        </p:nvGraphicFramePr>
        <p:xfrm>
          <a:off x="2786040" y="3500280"/>
          <a:ext cx="225756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6040" y="3500280"/>
                    <a:ext cx="22575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kstikehys 13"/>
          <p:cNvSpPr/>
          <p:nvPr/>
        </p:nvSpPr>
        <p:spPr>
          <a:xfrm>
            <a:off x="2604600" y="1214280"/>
            <a:ext cx="57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mikenkiä tai suksia käytettäessä pa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kaantuu laajemmalle al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kstikehys 3"/>
          <p:cNvSpPr/>
          <p:nvPr/>
        </p:nvSpPr>
        <p:spPr>
          <a:xfrm>
            <a:off x="3380400" y="500040"/>
            <a:ext cx="54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destä aiheutuvaa painetta sano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ydrostaattiseksi painee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ikehys 4"/>
          <p:cNvSpPr/>
          <p:nvPr/>
        </p:nvSpPr>
        <p:spPr>
          <a:xfrm>
            <a:off x="2959560" y="1500120"/>
            <a:ext cx="54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yvälle sukellettaessa korvat "menev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kkoon", koska paine kasv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kstikehys 5"/>
          <p:cNvSpPr/>
          <p:nvPr/>
        </p:nvSpPr>
        <p:spPr>
          <a:xfrm>
            <a:off x="255240" y="2786040"/>
            <a:ext cx="6630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paineen aiheuttaa ilmakehän ilman pain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anpinnalla se on noin 1 bar = 100000 P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kstikehys 6"/>
          <p:cNvSpPr/>
          <p:nvPr/>
        </p:nvSpPr>
        <p:spPr>
          <a:xfrm>
            <a:off x="33480" y="3786120"/>
            <a:ext cx="91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paine vaikuttaa meihin joka puolelta. Elimistön oman paineen vuoksi emme tavallisesti havaitse sitä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os muovipullostaa ilmaa pumpataan pois,se  puristuu kokoo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0" y="428760"/>
            <a:ext cx="3052800" cy="236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428760" y="5072040"/>
            <a:ext cx="1060200" cy="1071720"/>
          </a:xfrm>
          <a:prstGeom prst="rect">
            <a:avLst/>
          </a:prstGeom>
          <a:ln w="0">
            <a:noFill/>
          </a:ln>
        </p:spPr>
      </p:pic>
      <p:sp>
        <p:nvSpPr>
          <p:cNvPr id="78" name="Tekstikehys 10"/>
          <p:cNvSpPr/>
          <p:nvPr/>
        </p:nvSpPr>
        <p:spPr>
          <a:xfrm>
            <a:off x="2184120" y="5286240"/>
            <a:ext cx="656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paine pienenee ylöspäin mentäessä, sill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kehän paino pienen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2286000" cy="5121360"/>
          </a:xfrm>
          <a:prstGeom prst="rect">
            <a:avLst/>
          </a:prstGeom>
          <a:ln w="0">
            <a:noFill/>
          </a:ln>
        </p:spPr>
      </p:pic>
      <p:sp>
        <p:nvSpPr>
          <p:cNvPr id="80" name="Tekstikehys 2"/>
          <p:cNvSpPr/>
          <p:nvPr/>
        </p:nvSpPr>
        <p:spPr>
          <a:xfrm>
            <a:off x="2899800" y="928800"/>
            <a:ext cx="62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ä heliumtäytteiselle ilmapallolle tapahtu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os se pääsee ir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ikehys 4"/>
          <p:cNvSpPr/>
          <p:nvPr/>
        </p:nvSpPr>
        <p:spPr>
          <a:xfrm>
            <a:off x="2897640" y="2143080"/>
            <a:ext cx="647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ussa paine pallon sisällä ja ulkona on s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tta  entä sen jälkeen, kun se kohoaa ylö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kstikehys 5"/>
          <p:cNvSpPr/>
          <p:nvPr/>
        </p:nvSpPr>
        <p:spPr>
          <a:xfrm>
            <a:off x="3647880" y="37861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uorakulmio 1"/>
          <p:cNvSpPr/>
          <p:nvPr/>
        </p:nvSpPr>
        <p:spPr>
          <a:xfrm>
            <a:off x="2071800" y="1428840"/>
            <a:ext cx="635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umppujen ja mehupillin toiminta perustuu ilmanpaineeseen. Ilmanpaine työntää mehun suuhun, johon on aiheutettu imemällä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onster_taking_a_drink_hg_clr"/>
          <p:cNvPicPr/>
          <p:nvPr/>
        </p:nvPicPr>
        <p:blipFill>
          <a:blip r:embed="rId1"/>
          <a:stretch/>
        </p:blipFill>
        <p:spPr>
          <a:xfrm>
            <a:off x="500040" y="321480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8:29:24Z</dcterms:created>
  <dc:creator>Tracey Temple</dc:creator>
  <dc:description/>
  <dc:language>en-US</dc:language>
  <cp:lastModifiedBy>Ritva Tamminen</cp:lastModifiedBy>
  <dcterms:modified xsi:type="dcterms:W3CDTF">2009-09-16T15:39:34Z</dcterms:modified>
  <cp:revision>30</cp:revision>
  <dc:subject/>
  <dc:title>Pressure</dc:title>
</cp:coreProperties>
</file>